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40D26-C7F7-426A-A985-46C5571DF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D091E-ABAC-465C-85F5-BADB31627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F71D3-EE91-4439-85A4-5ABBB5670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70EF6-9362-43B3-AE03-F8597BD2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C5B1-3ADD-4D3A-83E4-D03F0CB4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36FA-519C-4C86-9D5F-2F764E888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AD10-7506-4926-8832-8687470A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4A5F-4884-42CB-887D-28A60C6BB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56D0E-4040-4FBC-A8F4-4E750D0B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0C34-3EE3-4D65-B684-1BD5260D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F09E-ACE9-4838-9082-B35AF6767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54FD-C4F4-4A33-9214-03079B8B9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CCC3CF-CC48-4966-A931-A55D7D9CB56C}" type="slidenum">
              <a:rPr b="0" lang="en-US"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3333cc"/>
                </a:solidFill>
                <a:latin typeface="Bauhaus 93"/>
              </a:rPr>
              <a:t>The Sacrifice</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6600ff"/>
                </a:solidFill>
                <a:latin typeface="Bauhaus 93"/>
              </a:rPr>
              <a:t>By Jessica, Reagan, Alessandra,  and Giorgi</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3"/>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par>
                          <p:cTn id="10" fill="hold">
                            <p:stCondLst>
                              <p:cond delay="2000"/>
                            </p:stCondLst>
                            <p:childTnLst>
                              <p:par>
                                <p:cTn id="11" nodeType="afterEffect" fill="hold" presetClass="entr" presetID="50">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2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14" dur="2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5"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Family Life</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fontScale="97000"/>
          </a:bodyPr>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Life in the Salem Village in 1692 for children was very different then what we live like today</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Expected to behave as adult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Had to do chores, attend church services, and repress individual difference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Children were punished for showing emotion, such as excitement, fear, or anger</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They rarely played with games or toy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If they were caught playing or having fun, they were punished severely because this was considered sinful distraction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Children learned to read simply by reading books that they had in their house</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Some households only owned a Bible, and that is all the children in that house had to read</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Not all the children in the Salem Village learned to 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Family Life Continu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fontScale="91000"/>
          </a:bodyPr>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The expectations for children in the Salem Village were different for a boy than a girl</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Boys often worked as apprentices outside their home</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Practiced skills such as carpentry or crafts</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They were allowed to explore outdoors; go hunting and fishing</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Girls were expected to help around the house; help mothers cook, wash, and clean</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Families supported themselves in the Salem Village</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Made their own clothing, planted vegetables, and raised meat</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Farming was sometimes very difficult because of harsh climate, rough terrain, and floods (which, if a flood came, could ruin a years worth of work)</a:t>
            </a:r>
            <a:endParaRPr b="0" lang="en-US" sz="2400" spc="-1" strike="noStrike">
              <a:solidFill>
                <a:srgbClr val="000000"/>
              </a:solidFill>
              <a:latin typeface="Arial"/>
            </a:endParaRPr>
          </a:p>
          <a:p>
            <a:pPr marL="31032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032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333cc"/>
                </a:solidFill>
                <a:latin typeface="Bauhaus 93"/>
              </a:rPr>
              <a:t>Religion</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Those who followed Satan were known as witches.</a:t>
            </a:r>
            <a:endParaRPr b="0" lang="en-US" sz="3200" spc="-1" strike="noStrike">
              <a:solidFill>
                <a:srgbClr val="000000"/>
              </a:solidFill>
              <a:latin typeface="Arial"/>
            </a:endParaRPr>
          </a:p>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Witchcraft was one of the greatest crimes a person could commit, punishable by death fear of witchcraft was common in New England!</a:t>
            </a:r>
            <a:endParaRPr b="0" lang="en-US" sz="3200" spc="-1" strike="noStrike">
              <a:solidFill>
                <a:srgbClr val="000000"/>
              </a:solidFill>
              <a:latin typeface="Arial"/>
            </a:endParaRPr>
          </a:p>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It was against the law not to go to church. You had to go to church. It was the law.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333cc"/>
                </a:solidFill>
                <a:latin typeface="Bauhaus 93"/>
              </a:rPr>
              <a:t>Religion Continued…</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81360"/>
          </a:xfrm>
          <a:prstGeom prst="rect">
            <a:avLst/>
          </a:prstGeom>
          <a:noFill/>
          <a:ln w="0">
            <a:noFill/>
          </a:ln>
        </p:spPr>
        <p:txBody>
          <a:bodyPr lIns="90000" rIns="90000" tIns="46800" bIns="46800" anchor="t">
            <a:normAutofit/>
          </a:bodyPr>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Puritan dress was dictated by the church. Sleeping in church or stealing food you should be punished.</a:t>
            </a:r>
            <a:endParaRPr b="0" lang="en-US" sz="2800" spc="-1" strike="noStrike">
              <a:solidFill>
                <a:srgbClr val="000000"/>
              </a:solidFill>
              <a:latin typeface="Arial"/>
            </a:endParaRPr>
          </a:p>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To not be bewitched and if you did you would be cursed.</a:t>
            </a:r>
            <a:endParaRPr b="0" lang="en-US" sz="2800" spc="-1" strike="noStrike">
              <a:solidFill>
                <a:srgbClr val="000000"/>
              </a:solidFill>
              <a:latin typeface="Arial"/>
            </a:endParaRPr>
          </a:p>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Over 100 alleged witches had been tired and hanged in New England. Puritans also believed the devil was as real as God. They thought God should punish every sinful thing that a person did.</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In 1692, Salem, Oregon was under British rule</a:t>
            </a:r>
            <a:endParaRPr b="0" lang="en-US" sz="3200" spc="-1" strike="noStrike">
              <a:solidFill>
                <a:srgbClr val="000000"/>
              </a:solidFill>
              <a:latin typeface="Arial"/>
            </a:endParaRPr>
          </a:p>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This is a problem because they didn’t have a governor and they were waiting for a one</a:t>
            </a:r>
            <a:endParaRPr b="0" lang="en-US" sz="3200" spc="-1" strike="noStrike">
              <a:solidFill>
                <a:srgbClr val="000000"/>
              </a:solidFill>
              <a:latin typeface="Arial"/>
            </a:endParaRPr>
          </a:p>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It was very chaotic and the jails were filled with alleged witches because nobody knew exactly who to blame for the witchcraft</a:t>
            </a:r>
            <a:endParaRPr b="0" lang="en-US" sz="32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2"/>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Historical Ev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Historical Events (cont.)</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During this time, there were divisions in society in Salem. </a:t>
            </a:r>
            <a:endParaRPr b="0" lang="en-US" sz="2800" spc="-1" strike="noStrike">
              <a:solidFill>
                <a:srgbClr val="000000"/>
              </a:solidFill>
              <a:latin typeface="Arial"/>
            </a:endParaRPr>
          </a:p>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Salem Village consisted mostly of poor farmers but Salem Town was very prosperous with a lot of wealthy merchants</a:t>
            </a:r>
            <a:endParaRPr b="0" lang="en-US" sz="2800" spc="-1" strike="noStrike">
              <a:solidFill>
                <a:srgbClr val="000000"/>
              </a:solidFill>
              <a:latin typeface="Arial"/>
            </a:endParaRPr>
          </a:p>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Salem Village selected Reverend Samuel Parris who denounced the worldly ways of Salem Village which caused people to be stressful</a:t>
            </a:r>
            <a:endParaRPr b="0" lang="en-US" sz="2800" spc="-1" strike="noStrike">
              <a:solidFill>
                <a:srgbClr val="000000"/>
              </a:solidFill>
              <a:latin typeface="Arial"/>
            </a:endParaRPr>
          </a:p>
          <a:p>
            <a:pPr marL="3412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Quiz Time!</a:t>
            </a:r>
            <a:endParaRPr b="0" lang="en-US" sz="5400" spc="-1" strike="noStrike">
              <a:solidFill>
                <a:srgbClr val="000000"/>
              </a:solidFill>
              <a:latin typeface="Arial"/>
            </a:endParaRPr>
          </a:p>
        </p:txBody>
      </p:sp>
      <p:sp>
        <p:nvSpPr>
          <p:cNvPr id="56" name="PlaceHolder 2"/>
          <p:cNvSpPr>
            <a:spLocks noGrp="1"/>
          </p:cNvSpPr>
          <p:nvPr>
            <p:ph/>
          </p:nvPr>
        </p:nvSpPr>
        <p:spPr>
          <a:xfrm>
            <a:off x="457200" y="1219320"/>
            <a:ext cx="8228160" cy="5410080"/>
          </a:xfrm>
          <a:prstGeom prst="rect">
            <a:avLst/>
          </a:prstGeom>
          <a:noFill/>
          <a:ln w="0">
            <a:noFill/>
          </a:ln>
        </p:spPr>
        <p:txBody>
          <a:bodyPr lIns="90000" rIns="90000" tIns="46800" bIns="46800" anchor="t">
            <a:normAutofit fontScale="98000"/>
          </a:bodyPr>
          <a:p>
            <a:pPr marL="597240" indent="-597240">
              <a:lnSpc>
                <a:spcPct val="80000"/>
              </a:lnSpc>
              <a:spcBef>
                <a:spcPts val="799"/>
              </a:spcBef>
              <a:buClr>
                <a:srgbClr val="3333cc"/>
              </a:buClr>
              <a:buFont typeface="Bauhaus 93"/>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Who ruled Salem in 1692? </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The British</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2. Why was this bad?</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They didn’t have a governor and they were waiting for on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3. What were the divisions in society in Salem in 1692?</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Poor Farmers and Rich Merchants</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4. How did children learn to read?</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6600ff"/>
                </a:solidFill>
                <a:latin typeface="Bauhaus 93"/>
              </a:rPr>
              <a:t>By reading books that they had in their hous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5. (T or F) The expectations for children in Salem were the same for a boy and a girl.</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6600ff"/>
                </a:solidFill>
                <a:latin typeface="Bauhaus 93"/>
              </a:rPr>
              <a:t>Fals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6600ff"/>
                </a:solidFill>
                <a:latin typeface="Bauhaus 93"/>
              </a:rPr>
              <a:t>           </a:t>
            </a:r>
            <a:endParaRPr b="0" lang="en-US" sz="20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3333cc"/>
                </a:solidFill>
                <a:latin typeface="Bauhaus 93"/>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16684 0.01225 C 0.18177 0.01294 0.19705 0.01317 0.21198 0.01433 C 0.21354 0.01456 0.21493 0.01595 0.21632 0.01641 C 0.22205 0.01872 0.22708 0.02104 0.23264 0.02497 C 0.23541 0.02705 0.24027 0.03514 0.24027 0.03537 C 0.24288 0.0437 0.24496 0.04739 0.24982 0.05179 C 0.2526 0.05734 0.25607 0.06034 0.2585 0.06635 C 0.26979 0.09387 0.25816 0.06959 0.26927 0.09156 C 0.27621 0.1052 0.2809 0.12786 0.28663 0.14381 C 0.28698 0.14589 0.28715 0.14797 0.28767 0.14982 C 0.28819 0.15213 0.28923 0.15398 0.28975 0.1563 C 0.29062 0.16023 0.29184 0.16855 0.29184 0.16878 C 0.29114 0.18913 0.29149 0.19976 0.28854 0.21687 C 0.28455 0.28185 0.28802 0.34774 0.28333 0.41271 C 0.28177 0.43167 0.28194 0.44832 0.27673 0.46497 C 0.27239 0.49456 0.26892 0.5267 0.26163 0.55468 C 0.26128 0.55745 0.26111 0.56046 0.26059 0.56254 C 0.25937 0.56739 0.25642 0.57549 0.25642 0.57572 C 0.25347 0.59213 0.25069 0.60901 0.24548 0.62358 C 0.24392 0.63237 0.24253 0.63745 0.23906 0.64439 C 0.23715 0.65479 0.23281 0.66104 0.22934 0.66936 C 0.22708 0.67491 0.22482 0.68069 0.22274 0.68578 C 0.22031 0.69225 0.21632 0.69595 0.21406 0.70265 C 0.21302 0.70589 0.21163 0.71075 0.21007 0.71329 C 0.20086 0.72647 0.18889 0.73179 0.17847 0.74011 C 0.17482 0.74335 0.16371 0.75745 0.15902 0.75907 C 0.15555 0.76023 0.15191 0.76023 0.14826 0.76115 C 0.06632 0.80092 0.03611 0.763 -0.02518 0.74867 C -0.03386 0.7445 -0.03768 0.73271 -0.04254 0.71907 C -0.04375 0.71514 -0.0448 0.71028 -0.0467 0.70682 C -0.05035 0.70011 -0.04844 0.70427 -0.05209 0.69433 C -0.05504 0.67329 -0.05122 0.69549 -0.05556 0.68161 C -0.05625 0.68023 -0.05625 0.67768 -0.05643 0.67537 C -0.05868 0.66635 -0.06111 0.65641 -0.06407 0.64832 C -0.06545 0.63953 -0.06823 0.62982 -0.0717 0.62358 C -0.07292 0.61202 -0.07605 0.60277 -0.07795 0.59213 C -0.07778 0.57942 -0.07778 0.56693 -0.07691 0.55468 C -0.07657 0.5489 -0.07379 0.54497 -0.07257 0.54011 C -0.06407 0.50104 -0.03924 0.48508 -0.01875 0.4793 C 0.00729 0.48069 0.02448 0.47815 0.04705 0.48786 C 0.0552 0.49109 0.06354 0.49502 0.07187 0.49826 C 0.07361 0.49896 0.07725 0.50034 0.07725 0.50057 C 0.08489 0.50751 0.0927 0.5089 0.10104 0.51075 C 0.10347 0.51237 0.10625 0.51283 0.1085 0.51491 C 0.11909 0.52416 0.10902 0.51838 0.11823 0.52531 C 0.12691 0.53202 0.13645 0.53572 0.146 0.53803 C 0.15017 0.54057 0.1533 0.54335 0.15694 0.54612 C 0.16267 0.55052 0.16892 0.55167 0.17448 0.55676 C 0.18541 0.56763 0.19861 0.5778 0.21111 0.5815 C 0.21527 0.5845 0.21961 0.58635 0.22378 0.58797 C 0.23107 0.59676 0.23975 0.59745 0.24757 0.60254 C 0.2585 0.60161 0.28177 0.60462 0.29514 0.5963 C 0.30399 0.5845 0.3059 0.56994 0.31354 0.55884 C 0.31892 0.54173 0.32413 0.52277 0.33194 0.5089 C 0.33125 0.4904 0.33194 0.46127 0.3243 0.44601 C 0.32257 0.43676 0.32066 0.42312 0.31788 0.41479 C 0.31701 0.41225 0.31545 0.41086 0.31458 0.40855 C 0.3125 0.40346 0.31128 0.39722 0.3092 0.3919 C 0.30416 0.37896 0.30017 0.36578 0.29184 0.36069 C 0.27395 0.33687 0.25295 0.32601 0.23142 0.32092 C 0.22118 0.31607 0.22569 0.31768 0.20677 0.31653 C 0.17691 0.31583 0.14705 0.31537 0.11718 0.31468 C 0.09514 0.30936 0.07257 0.30774 0.05034 0.30427 C 0.0368 0.30011 0.02309 0.29711 0.00937 0.29387 C -0.00625 0.28416 -0.02223 0.27537 -0.0382 0.26867 C -0.04966 0.26358 -0.06059 0.25664 -0.07257 0.2541 C -0.08976 0.24601 -0.10591 0.23422 -0.12327 0.22936 C -0.12952 0.22265 -0.13577 0.22057 -0.14271 0.21872 C -0.14775 0.21572 -0.15295 0.21248 -0.15782 0.20832 C -0.16441 0.20231 -0.17118 0.19398 -0.1783 0.18959 C -0.19219 0.16878 -0.17535 0.19283 -0.18594 0.18127 C -0.19219 0.17433 -0.19827 0.16485 -0.20417 0.1563 C -0.20556 0.15422 -0.20712 0.15213 -0.20868 0.14982 C -0.21146 0.14474 -0.21702 0.13317 -0.21702 0.13341 C -0.22118 0.11745 -0.21702 0.13133 -0.22257 0.11838 C -0.22483 0.11329 -0.22813 0.09942 -0.22917 0.09549 C -0.22969 0.09294 -0.23073 0.0904 -0.23125 0.08739 C -0.23177 0.08323 -0.23316 0.07491 -0.23316 0.07514 C -0.23299 0.07121 -0.2323 0.04971 -0.23004 0.04554 C -0.22605 0.03768 -0.22118 0.02659 -0.21598 0.02057 C -0.2066 0.00948 -0.19532 0.00462 -0.1849 -0.00232 C -0.17691 -0.0074 -0.16927 -0.01249 -0.16111 -0.01688 C -0.15955 -0.01781 -0.15486 -0.02104 -0.15348 -0.02128 C -0.14532 -0.02243 -0.13698 -0.02266 -0.12865 -0.02313 C -0.10712 -0.02266 -0.08559 -0.02266 -0.06407 -0.02128 C -0.0592 -0.02104 -0.05747 -0.0148 -0.05209 -0.0148 E">
                                      <p:cBhvr>
                                        <p:cTn id="21" dur="2000" fill="hold"/>
                                        <p:tgtEl>
                                          <p:spTgt spid="55"/>
                                        </p:tgtEl>
                                      </p:cBhvr>
                                    </p:animMotion>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6">
                                            <p:txEl>
                                              <p:pRg st="0" end="0"/>
                                            </p:txEl>
                                          </p:spTgt>
                                        </p:tgtEl>
                                        <p:attrNameLst>
                                          <p:attrName>style.visibility</p:attrName>
                                        </p:attrNameLst>
                                      </p:cBhvr>
                                      <p:to>
                                        <p:strVal val="visible"/>
                                      </p:to>
                                    </p:set>
                                    <p:anim calcmode="lin" valueType="num">
                                      <p:cBhvr additive="base">
                                        <p:cTn id="2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32" dur="1000"/>
                                        <p:tgtEl>
                                          <p:spTgt spid="5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2" end="2"/>
                                            </p:txEl>
                                          </p:spTgt>
                                        </p:tgtEl>
                                        <p:attrNameLst>
                                          <p:attrName>style.visibility</p:attrName>
                                        </p:attrNameLst>
                                      </p:cBhvr>
                                      <p:to>
                                        <p:strVal val="visible"/>
                                      </p:to>
                                    </p:set>
                                    <p:anim calcmode="lin" valueType="num">
                                      <p:cBhvr additive="base">
                                        <p:cTn id="3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animEffect filter="checkerboard(across)" transition="in">
                                      <p:cBhvr additive="repl">
                                        <p:cTn id="43" dur="500"/>
                                        <p:tgtEl>
                                          <p:spTgt spid="56">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48" dur="1000"/>
                                        <p:tgtEl>
                                          <p:spTgt spid="56">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53" dur="1000"/>
                                        <p:tgtEl>
                                          <p:spTgt spid="5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Effect filter="box(in)" transition="in">
                                      <p:cBhvr additive="repl">
                                        <p:cTn id="58" dur="500"/>
                                        <p:tgtEl>
                                          <p:spTgt spid="56">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
                                            <p:txEl>
                                              <p:pRg st="7" end="7"/>
                                            </p:txEl>
                                          </p:spTgt>
                                        </p:tgtEl>
                                        <p:attrNameLst>
                                          <p:attrName>style.visibility</p:attrName>
                                        </p:attrNameLst>
                                      </p:cBhvr>
                                      <p:to>
                                        <p:strVal val="visible"/>
                                      </p:to>
                                    </p:set>
                                    <p:anim calcmode="lin" valueType="num">
                                      <p:cBhvr additive="base">
                                        <p:cTn id="6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
                                            <p:txEl>
                                              <p:pRg st="8" end="8"/>
                                            </p:txEl>
                                          </p:spTgt>
                                        </p:tgtEl>
                                        <p:attrNameLst>
                                          <p:attrName>style.visibility</p:attrName>
                                        </p:attrNameLst>
                                      </p:cBhvr>
                                      <p:to>
                                        <p:strVal val="visible"/>
                                      </p:to>
                                    </p:set>
                                    <p:anim calcmode="lin" valueType="num">
                                      <p:cBhvr additive="base">
                                        <p:cTn id="69"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9" end="9"/>
                                            </p:txEl>
                                          </p:spTgt>
                                        </p:tgtEl>
                                        <p:attrNameLst>
                                          <p:attrName>style.visibility</p:attrName>
                                        </p:attrNameLst>
                                      </p:cBhvr>
                                      <p:to>
                                        <p:strVal val="visible"/>
                                      </p:to>
                                    </p:set>
                                    <p:anim calcmode="lin" valueType="num">
                                      <p:cBhvr additive="base">
                                        <p:cTn id="75"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Quiz Time!</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6. Children were expected to behave like what?</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Adults</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7. What were people called who fallowed Satan?</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Witches</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8. What was one of the greatest crimes that you could commit? One that was punishable by death.</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Witchcraft</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0 0 C 0.0158 0.00555 0.00833 0.00347 0.02222 0.00648 C 0.02778 0.01133 0.03489 0.02012 0.04114 0.02335 C 0.04427 0.02497 0.05069 0.02752 0.05069 0.02752 C 0.05816 0.04208 0.04948 0.02775 0.05868 0.03607 C 0.06059 0.03769 0.06163 0.04046 0.06337 0.04231 C 0.06892 0.04856 0.07587 0.05226 0.0809 0.05919 C 0.08593 0.06636 0.0934 0.06937 0.09843 0.07607 C 0.10312 0.08254 0.10798 0.08879 0.11267 0.09526 C 0.11458 0.10312 0.11771 0.10844 0.12222 0.11422 C 0.121 0.15283 0.12413 0.15306 0.11892 0.17549 C 0.11684 0.18474 0.11614 0.19214 0.11111 0.19884 C 0.1085 0.20231 0.10312 0.20925 0.10312 0.20925 C 0.1 0.22197 0.10399 0.21017 0.0967 0.21989 C 0.08559 0.23468 0.10191 0.21896 0.08889 0.23052 C 0.0835 0.24093 0.07934 0.25272 0.07291 0.2622 C 0.06996 0.26659 0.06337 0.27491 0.06337 0.27491 C 0.05955 0.28994 0.05243 0.29989 0.046 0.31283 C 0.04496 0.31491 0.04392 0.31723 0.04288 0.31931 C 0.04184 0.32139 0.03958 0.32555 0.03958 0.32555 C 0.03576 0.34104 0.02621 0.35653 0.01736 0.36786 C 0.01302 0.38543 0.02048 0.35861 0.00781 0.38474 C 0.00416 0.39214 0.00312 0.39746 -0.00157 0.40393 C -0.00469 0.4185 -0.00938 0.43353 -0.01597 0.44601 C -0.01841 0.45942 -0.01632 0.45202 -0.02379 0.46728 C -0.02709 0.47399 -0.02795 0.48324 -0.03021 0.49041 C -0.03091 0.49272 -0.03247 0.49457 -0.03334 0.49688 C -0.03455 0.50035 -0.03577 0.50382 -0.03663 0.50752 C -0.04288 0.53156 -0.04948 0.55676 -0.054 0.5815 C -0.05799 0.60301 -0.05365 0.59653 -0.05886 0.63214 C -0.06129 0.64809 -0.06198 0.66497 -0.06511 0.68069 C -0.06597 0.68509 -0.06736 0.68902 -0.06823 0.69341 C -0.06927 0.69896 -0.07153 0.71029 -0.07153 0.71029 C -0.0757 0.76069 -0.07466 0.80925 -0.07466 0.86035 C -0.0724 0.85156 -0.07518 0.84671 -0.07622 0.83723 C -0.07761 0.8252 -0.07813 0.8148 -0.08108 0.80347 C -0.08334 0.79468 -0.08386 0.79191 -0.08577 0.78428 C -0.08629 0.7822 -0.08733 0.77804 -0.08733 0.77804 C -0.08924 0.76185 -0.08959 0.74543 -0.09219 0.72948 C -0.09115 0.69411 -0.09722 0.65711 -0.08889 0.62358 C -0.08195 0.59561 -0.07275 0.56601 -0.06042 0.54127 C -0.0599 0.53202 -0.0599 0.52278 -0.05886 0.51376 C -0.05816 0.50798 -0.05556 0.49688 -0.05556 0.49688 C -0.05417 0.47306 -0.05469 0.44948 -0.04445 0.42913 C -0.0415 0.41295 -0.03802 0.39792 -0.03334 0.38266 C -0.03021 0.37202 -0.03004 0.36093 -0.02379 0.35306 C -0.01771 0.32809 -0.02014 0.34358 -0.02222 0.30035 C -0.02257 0.29341 -0.02466 0.25919 -0.02552 0.25156 C -0.02691 0.23884 -0.03299 0.22752 -0.03663 0.21572 C -0.04063 0.20254 -0.04497 0.1896 -0.05087 0.17757 C -0.05347 0.16416 -0.06025 0.1533 -0.06354 0.13965 C -0.06528 0.13272 -0.07153 0.12046 -0.07153 0.12046 C -0.07257 0.1163 -0.07361 0.11214 -0.07466 0.10798 C -0.07518 0.1059 -0.0757 0.10358 -0.07622 0.1015 C -0.07674 0.09942 -0.07726 0.09734 -0.07778 0.09526 C -0.0783 0.09318 -0.07934 0.08879 -0.07934 0.08879 C -0.08282 0.05942 -0.08212 0.07145 -0.07934 0.02335 C -0.07882 0.01387 -0.07309 0.01896 -0.07309 0.01272 C -0.06823 -0.01063 -0.07136 -0.03607 -0.054 -0.04231 C -0.04653 -0.04162 -0.03907 -0.04185 -0.03177 -0.04 C -0.02657 -0.03884 -0.02709 -0.03352 -0.02379 -0.02959 C -0.01979 -0.02497 -0.01389 -0.01896 -0.00799 -0.01896 L 0.03333 0.01919 L 0.04757 0.00648 E">
                                      <p:cBhvr>
                                        <p:cTn id="82" dur="2000" fill="hold"/>
                                        <p:tgtEl>
                                          <p:spTgt spid="57"/>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58">
                                            <p:txEl>
                                              <p:pRg st="1" end="1"/>
                                            </p:txEl>
                                          </p:spTgt>
                                        </p:tgtEl>
                                        <p:attrNameLst>
                                          <p:attrName>style.visibility</p:attrName>
                                        </p:attrNameLst>
                                      </p:cBhvr>
                                      <p:to>
                                        <p:strVal val="visible"/>
                                      </p:to>
                                    </p:set>
                                    <p:animEffect filter="wheel(4)" transition="in">
                                      <p:cBhvr additive="repl">
                                        <p:cTn id="93" dur="1000"/>
                                        <p:tgtEl>
                                          <p:spTgt spid="5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anim calcmode="lin" valueType="num">
                                      <p:cBhvr additive="base">
                                        <p:cTn id="9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58">
                                            <p:txEl>
                                              <p:pRg st="3" end="3"/>
                                            </p:txEl>
                                          </p:spTgt>
                                        </p:tgtEl>
                                        <p:attrNameLst>
                                          <p:attrName>style.visibility</p:attrName>
                                        </p:attrNameLst>
                                      </p:cBhvr>
                                      <p:to>
                                        <p:strVal val="visible"/>
                                      </p:to>
                                    </p:set>
                                    <p:animEffect filter="wheel(4)" transition="in">
                                      <p:cBhvr additive="repl">
                                        <p:cTn id="104" dur="1000"/>
                                        <p:tgtEl>
                                          <p:spTgt spid="58">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4" end="4"/>
                                            </p:txEl>
                                          </p:spTgt>
                                        </p:tgtEl>
                                        <p:attrNameLst>
                                          <p:attrName>style.visibility</p:attrName>
                                        </p:attrNameLst>
                                      </p:cBhvr>
                                      <p:to>
                                        <p:strVal val="visible"/>
                                      </p:to>
                                    </p:set>
                                    <p:anim calcmode="lin" valueType="num">
                                      <p:cBhvr additive="base">
                                        <p:cTn id="10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58">
                                            <p:txEl>
                                              <p:pRg st="5" end="5"/>
                                            </p:txEl>
                                          </p:spTgt>
                                        </p:tgtEl>
                                        <p:attrNameLst>
                                          <p:attrName>style.visibility</p:attrName>
                                        </p:attrNameLst>
                                      </p:cBhvr>
                                      <p:to>
                                        <p:strVal val="visible"/>
                                      </p:to>
                                    </p:set>
                                    <p:animEffect filter="wheel(4)" transition="in">
                                      <p:cBhvr additive="repl">
                                        <p:cTn id="115"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CS</dc:creator>
  <dc:description/>
  <dc:language>en-US</dc:language>
  <cp:lastModifiedBy>Bruce Arnett, Jr.</cp:lastModifiedBy>
  <dcterms:modified xsi:type="dcterms:W3CDTF">2008-10-16T23:59:56Z</dcterms:modified>
  <cp:revision>6</cp:revision>
  <dc:subject/>
  <dc:title>Religion</dc:title>
</cp:coreProperties>
</file>